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293F-ED6C-41C0-9706-9E0B8A02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02E-E178-43F9-9294-869396B7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CAB-DDAE-4D16-9FDD-03F2CD42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564-5071-4153-BB1C-A2F69288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8A5-845B-4CED-91FB-50ACB509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6CC-C859-49E1-A217-00AAE5F5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066-FA61-4E3C-BE54-63FA71A5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5388-444B-4562-8E8B-61A9834F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C62-7AB7-41B8-92E7-188EF87E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BD49-67BE-4358-8ADF-AB445B36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B97C-FC26-4E6E-B0FD-3D0ED032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FD9F-9CAC-42AB-9DEA-D36ED79A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12BE-25E6-43C7-AD95-61ACFB193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inting function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Jstart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8:55:45Z</dcterms:created>
  <dc:creator>Administrator</dc:creator>
  <dc:description/>
  <dc:language>en-US</dc:language>
  <cp:lastModifiedBy>Administrator</cp:lastModifiedBy>
  <dcterms:modified xsi:type="dcterms:W3CDTF">2003-02-28T18:56:07Z</dcterms:modified>
  <cp:revision>1</cp:revision>
  <dc:subject/>
  <dc:title>The printing function works</dc:title>
</cp:coreProperties>
</file>